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3EC-2B82-4E1B-A7E3-4CEC3202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27A-BDD2-430A-B3B3-6168D7BB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2D8-D2B6-4702-B40A-94B535F6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A74-ABAD-4CB4-9946-572D932F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8B12-3B6C-42FC-B6CC-1E159FFF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9D7-8176-4251-8BE2-110C0A23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D71-FDD2-46E3-B8A2-2F88CC54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DD1-0F1B-4826-BBDF-232D3A8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883-A643-4EB9-94D6-D2EFD617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857-F4EE-4EFF-9651-A0BBD643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AA5-67FE-4321-96E8-C7AB34E8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8BE-691C-466C-A8B0-84FC946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D4A3-72CB-4C68-BCF8-281919DD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, footnotes, and endno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8999" t="40667" r="49001" b="35337"/>
          <a:stretch/>
        </p:blipFill>
        <p:spPr>
          <a:xfrm>
            <a:off x="533520" y="2438280"/>
            <a:ext cx="79246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56:20Z</dcterms:created>
  <dc:creator>sdawson</dc:creator>
  <dc:description/>
  <dc:language>en-US</dc:language>
  <cp:lastModifiedBy>sdawson</cp:lastModifiedBy>
  <dcterms:modified xsi:type="dcterms:W3CDTF">2011-12-19T14:56:33Z</dcterms:modified>
  <cp:revision>1</cp:revision>
  <dc:subject/>
  <dc:title>References, footnotes, and endnotes </dc:title>
</cp:coreProperties>
</file>